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72F-9BC2-4457-AFC9-77D06573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267-8375-4E08-9A91-3C8FDD23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C55-92A3-402E-AAA6-EE90B0E5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81E-ACD8-455C-85CD-3D4B903B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5A16-C185-43E6-AA91-0AEB52D4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E6F5-C579-43AA-B813-A68FE5B6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0F2-D43E-4E65-AFC4-8F9CC28A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5CC2-FCDB-4DCA-B3BD-8DB7373F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034E-E7F3-4FB5-A68E-2C72206F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16C5-569B-42E9-AB36-2B85065A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7639-7E8B-4D35-8292-A292F0CE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B38-9523-4C27-A363-C83F8B2B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92D8-B858-4D96-AEC8-D017B51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8B9E-8D7B-4989-AB92-5D48C85D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F2BA-5FC1-471F-9A8F-EFE035BA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2853-7B50-4C76-8474-16162E02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BF1B-8A66-42EB-AF4D-2E9F57D9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420-3FCC-4AA0-98BF-FC1BD0E2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A3C-3CF6-4EF6-8360-67D467EF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650-713B-4251-BFE2-3009146D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CD2-FB9B-4A8E-952B-185E1A1D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C27-8588-4DD2-BEF4-7CAF5A55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B9C-165E-441B-AB0F-AF560F46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B7A-6587-4238-A6D0-BC1753F3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8563-BF64-4900-A899-67E393EFAA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2AB-9E54-4214-863A-962A24BE1D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nline Treasure Hunts</a:t>
            </a:r>
            <a:br>
              <a:rPr sz="4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Prepared by: Eddelyn D. Gupeteo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b-Enhanced Learning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 Instructional Design Worksho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ed from: Patricia B. Arin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ilipinas School N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An online inquiry-based activity developed by Australian Tom March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Aims to develop knowledge of a specific topic in the curriculum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brief introduc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et of questions about a topic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et of web resources where the answers can be found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big Question that students will answer as a concluding activit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s mastery of a topic through carefully formulated and sequenced questions that define the scope or parameters of the top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s reading skills through exposure to various types of learning materials, and different ways of presenting a top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sters active lear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s skills in analysis and synthesis through the Big Questions, which requires students to integrate what they have learned from the web resour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s creativity by having students synthesize information using various formats, such as reports, skits, posters and coll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2:22:38Z</dcterms:created>
  <dc:creator>Student's</dc:creator>
  <dc:description/>
  <dc:language>en-US</dc:language>
  <cp:lastModifiedBy>Student's</cp:lastModifiedBy>
  <dcterms:modified xsi:type="dcterms:W3CDTF">2011-01-06T02:24:40Z</dcterms:modified>
  <cp:revision>1</cp:revision>
  <dc:subject/>
  <dc:title>Online Treasure Hunts Prepared by: Eddelyn D. Gupeteo</dc:title>
</cp:coreProperties>
</file>